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B818-B7AA-48FE-ABDA-9FB8790CE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7D57-7730-4058-9AF1-7E21AD1B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D8EA-9740-4AE3-8805-F15DA8B1E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72A5-2C7C-4B70-95A6-B39ABBC0C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1AAC0-DC34-42BD-B009-E98B615A5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527E-D192-48EC-B606-250A3A68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9E85-58A6-46A3-B6FD-4BCAC03C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FDCD-43B8-44CE-97CB-8851C728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3C56-9B0A-46C1-92AD-82B921A6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C37C-C2FF-4450-B04C-691C90F3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003E-FA52-45D4-B381-DDE8015C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1208-9ED1-43CF-B426-A7DA5046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8A71-E04A-433D-B084-81688732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9408-A6BD-47A1-9B9D-423F7E9D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76FE-446A-4E19-B9F9-CED7FB25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8FC1-A1F1-4B6C-8F1C-DCFAEFB89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377B-6313-4FD7-B7D2-F0F4EEE23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4B79-D0D8-4BDB-9F6F-C75D8A10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6D0D-2C3A-48DC-B346-8F1A04A4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5A43-BDA8-49F6-808C-B3A4C8AD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DD0C-A21B-4E39-8B35-0D112315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5D98-E963-4837-AAB1-3F79C01E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9611-D08D-4FD4-A1CB-A8998F25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B86F-4A83-449F-B1F5-2133E63B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4AAA-3B2D-498A-99A9-FF9E10646D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557B-F68D-4B49-A42D-BE06A3318E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oject Over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any 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er 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urrent Statu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-level overview of progress against schedu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-track in what are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hind in what are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head in what are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expected delays or issu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elated Document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keting pla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ation or contact name/pho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ation or contact name/pho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t mort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ation or contact name/pho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mit ques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ation or contact name/pho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oject Goal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ltimate goal of projec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lationship to other proje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-level timing go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Descrip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cribe the project in non-technical term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 following slides for discussing status, schedules, budget, etc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st location or contact for specification (or other related documents) 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ompetitive Analysi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etitor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You may want to allocate one slide per competitor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ength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strengths relative to competito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aknes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weaknesses relative to competit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ompetitive Analysis, Cont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etito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ength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aknes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st location or contact for competitive analysis (or other related documents) 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echnolog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technology being us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dards being adopt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dards specifically being ignor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rawbacks &amp; benefi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YA: define your acronyms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eam/Resourc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te assumptions about resources allocated to this projec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op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quip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pport &amp; outside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ufacturing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ocedur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light any procedural differences from regular projects of this typ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cuss requirements, benefits, and issues of using new procedu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st location or contact for procedures document (or other related documents) 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chedu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iew high-level schedule milestones he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st location or contact for detailed schedule (or other related documents) 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372320" y="3352680"/>
            <a:ext cx="6476040" cy="1577160"/>
            <a:chOff x="1372320" y="3352680"/>
            <a:chExt cx="6476040" cy="1577160"/>
          </a:xfrm>
        </p:grpSpPr>
        <p:grpSp>
          <p:nvGrpSpPr>
            <p:cNvPr id="116" name=""/>
            <p:cNvGrpSpPr/>
            <p:nvPr/>
          </p:nvGrpSpPr>
          <p:grpSpPr>
            <a:xfrm>
              <a:off x="1372320" y="4267080"/>
              <a:ext cx="6476040" cy="662760"/>
              <a:chOff x="1372320" y="4267080"/>
              <a:chExt cx="6476040" cy="662760"/>
            </a:xfrm>
          </p:grpSpPr>
          <p:sp>
            <p:nvSpPr>
              <p:cNvPr id="117" name=""/>
              <p:cNvSpPr/>
              <p:nvPr/>
            </p:nvSpPr>
            <p:spPr>
              <a:xfrm>
                <a:off x="1447560" y="4267080"/>
                <a:ext cx="6400800" cy="486000"/>
              </a:xfrm>
              <a:prstGeom prst="rightArrow">
                <a:avLst>
                  <a:gd name="adj1" fmla="val 36602"/>
                  <a:gd name="adj2" fmla="val 54145"/>
                </a:avLst>
              </a:prstGeom>
              <a:gradFill rotWithShape="0">
                <a:gsLst>
                  <a:gs pos="0">
                    <a:srgbClr val="00ffcc"/>
                  </a:gs>
                  <a:gs pos="100000">
                    <a:srgbClr val="00ccff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079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372320" y="4622760"/>
                <a:ext cx="48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Ja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899720" y="4622760"/>
                <a:ext cx="49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Fe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459880" y="4622760"/>
                <a:ext cx="497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a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056040" y="4622760"/>
                <a:ext cx="48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Ap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26640" y="4622760"/>
                <a:ext cx="526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57000" y="4622760"/>
                <a:ext cx="49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Ju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794480" y="4622760"/>
                <a:ext cx="537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July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390640" y="4622760"/>
                <a:ext cx="50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950440" y="462276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Oc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500520" y="4622760"/>
                <a:ext cx="515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Nov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106760" y="4622760"/>
                <a:ext cx="50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De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1523880" y="3352680"/>
              <a:ext cx="2438280" cy="15264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62160" y="3657600"/>
              <a:ext cx="1905120" cy="15228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67280" y="3962520"/>
              <a:ext cx="1676520" cy="15228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7:24:05Z</dcterms:created>
  <dc:creator>student1</dc:creator>
  <dc:description>This is my project presentation</dc:description>
  <cp:keywords>project </cp:keywords>
  <dc:language>en-US</dc:language>
  <cp:lastModifiedBy>jgaron</cp:lastModifiedBy>
  <dcterms:modified xsi:type="dcterms:W3CDTF">2007-07-27T17:26:01Z</dcterms:modified>
  <cp:revision>2</cp:revision>
  <dc:subject>My Project Overview</dc:subject>
  <dc:title>Project Over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