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E2B-0368-4244-90F7-62C164EA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04B-C645-4C32-BB6B-BB118E38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F5F-D961-47FE-A28D-58EF5C26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3C4-E827-4280-8079-8EDA919D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A45E-09BA-41D2-8334-7AA76899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9B2-5F39-48BE-BA28-5B88852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64EF-62FF-4850-A3ED-948FC92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77F-CFF3-46C2-A523-49BC6E24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8E17-E357-4D8E-97EE-7AF046AD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5B38-A9D2-4A9E-BAFF-0F207B8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31E4-ECE4-4506-900C-9300F28C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EE3-591B-4E9F-8E94-3A4D3176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D2FB-DC25-4228-8875-23E29D75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D2F-9359-4597-BD8C-C04BA70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E1F2-8B2E-4A75-8497-189E5FB8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6325-C4B0-428D-B7B9-7E8F168D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3A64-9A8A-4901-895B-7277E22A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017-0C8D-47D8-8747-21DDBA7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067-025F-4ADA-8B5A-CAB05B95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074-4106-4C9D-9C34-3ABC772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AE9-0489-4793-9F1E-718AADBF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97D-2361-435A-8236-27BBC942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DA1-7716-4F2B-9198-ADBCBFAB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57F-6EC8-49B8-BC01-BD935E82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EBE6-B6F2-461D-B809-E8E35F002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948A-A47D-4A1E-AD63-2D0E36E0C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overview of progress against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track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in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ea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xpected delays or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ed Doc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 mor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it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ltimate goal of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onship to other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timing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project in non-technical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llowing slides for discussing status, schedules, budge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specification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You may want to allocate one slide per competi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aknesses relative to compet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, Cont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competitive analysis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ology being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eing adop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specifically being igno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backs &amp;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A: define your acronym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ssumptions about resources allocated to this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&amp; outsid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 any procedural differences from regular projects of thi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 requirements, benefits, and issues of using new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procedures document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high-level schedule milestones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detailed schedule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2320" y="3352680"/>
            <a:ext cx="6476040" cy="1577160"/>
            <a:chOff x="1372320" y="3352680"/>
            <a:chExt cx="6476040" cy="1577160"/>
          </a:xfrm>
        </p:grpSpPr>
        <p:grpSp>
          <p:nvGrpSpPr>
            <p:cNvPr id="116" name=""/>
            <p:cNvGrpSpPr/>
            <p:nvPr/>
          </p:nvGrpSpPr>
          <p:grpSpPr>
            <a:xfrm>
              <a:off x="1372320" y="4267080"/>
              <a:ext cx="6476040" cy="662760"/>
              <a:chOff x="1372320" y="4267080"/>
              <a:chExt cx="6476040" cy="662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447560" y="42670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232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9972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59880" y="46227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604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6640" y="4622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700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94480" y="462276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l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064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50440" y="46227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0520" y="46227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676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2388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16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7:24:05Z</dcterms:created>
  <dc:creator>student1</dc:creator>
  <dc:description>This is my project presentation</dc:description>
  <cp:keywords>project </cp:keywords>
  <dc:language>en-US</dc:language>
  <cp:lastModifiedBy>jgaron</cp:lastModifiedBy>
  <dcterms:modified xsi:type="dcterms:W3CDTF">2007-07-27T17:26:01Z</dcterms:modified>
  <cp:revision>2</cp:revision>
  <dc:subject>My Project Overview</dc:subject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