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E10-8A3E-49EE-9EDE-DD95E1F1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163-4266-45A4-BD87-677383C7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8EB-C175-4055-B814-825EED9D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C32-1BC2-4D18-B811-1E942C07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C82-57E8-420F-B082-6B743633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F1DC-6D45-4956-9C28-5669A3C5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642-9C66-42EF-9878-2E4FCAE2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775D-7239-46D3-A515-350F471D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88C9-829C-488B-B346-D9383506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662D-C171-4EA4-8067-B820E585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C293-0962-4388-A7F1-E355DD4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F82-DA43-49C9-821F-D9E562FE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E2F7-F51F-47F9-9717-D42144E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832-0884-4B9C-9A3E-AADAB5E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B04-35B3-425B-BEC1-4732564A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5E1-0246-4BDA-803E-0E6044C2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1F7-251D-47E7-B583-81281CD8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3BB-46E1-4140-BB3A-84350BC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C43-604F-4359-A0F2-0D32023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38B-3CBA-4C5A-8AAE-F9C05AA5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776-02D0-4CEC-A5AD-0E34BF66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ED9-730B-4981-A772-4D2DF9C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F9B-89FE-4884-9EFB-3C917B0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35C-98AD-450B-A72F-8FA0B59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A28E-3228-4E64-A32F-A781C1065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513-5583-46A4-83FD-2C11F038D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7:24:05Z</dcterms:created>
  <dc:creator>student1</dc:creator>
  <dc:description>This is my project presentation</dc:description>
  <cp:keywords>project </cp:keywords>
  <dc:language>en-US</dc:language>
  <cp:lastModifiedBy>jgaron</cp:lastModifiedBy>
  <dcterms:modified xsi:type="dcterms:W3CDTF">2007-07-27T17:26:01Z</dcterms:modified>
  <cp:revision>2</cp:revision>
  <dc:subject>My Project Overview</dc:subject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