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1E4-924C-430B-9050-EADF1672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30E-ED88-4C3A-A3EB-7169D9CD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143-C12F-4E60-A3DF-4AD26757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31E-E48A-45E7-9679-89DC216B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F7D-9A12-47EC-947B-8A9F68A3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A18C-3BF4-454A-BDB0-5287AA7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3472-87DB-43AA-B89D-AF1F0154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3CB4-5367-400D-94C1-FF7C1C68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B4AD-8283-49D4-A283-55FC2459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A726-3CA7-4E2E-9815-29FE3242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2516-CFFD-426F-98B5-98ADEC6D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BB4-CDEF-471E-94F3-E2534D5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8853-DF44-4275-A1E7-6989D2F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32B0-F553-47E4-8C8F-2C6493AA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E947-3DF5-4E32-ADEC-41C7D29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B4B-2928-4E75-B29E-CF0EBE2D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839E-8D66-478F-BC1F-D2920901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395-C33D-4AC9-9D55-15580F3B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774-5B7E-4DB1-87EC-DBC9926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B82-2332-4495-81DE-0680FFCB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46B-AE83-45F1-8167-C02C8238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612-A98C-44BB-90A7-2BE2831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D9F-1447-4661-8C17-1E3CD116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17B-A5C8-4000-B10F-70DD11D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624E-52C7-4D41-B8A7-E6BCC0BF4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77A-46D7-4969-9B9D-723621F89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overview of progress against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track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in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ea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xpected delays or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ed Doc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 mor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it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ltimate goal of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onship to other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timing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project in non-technical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llowing slides for discussing status, schedules, budge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specification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You may want to allocate one slide per competi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aknesses relative to compet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, Cont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competitive analysis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ology being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eing adop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specifically being igno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backs &amp;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A: define your acronym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ssumptions about resources allocated to this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&amp; outsid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 any procedural differences from regular projects of thi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 requirements, benefits, and issues of using new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procedures document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high-level schedule milestones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detailed schedule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2320" y="3352680"/>
            <a:ext cx="6476040" cy="1577160"/>
            <a:chOff x="1372320" y="3352680"/>
            <a:chExt cx="6476040" cy="1577160"/>
          </a:xfrm>
        </p:grpSpPr>
        <p:grpSp>
          <p:nvGrpSpPr>
            <p:cNvPr id="116" name=""/>
            <p:cNvGrpSpPr/>
            <p:nvPr/>
          </p:nvGrpSpPr>
          <p:grpSpPr>
            <a:xfrm>
              <a:off x="1372320" y="4267080"/>
              <a:ext cx="6476040" cy="662760"/>
              <a:chOff x="1372320" y="4267080"/>
              <a:chExt cx="6476040" cy="662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447560" y="42670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232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9972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59880" y="46227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604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6640" y="4622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700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94480" y="462276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l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064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50440" y="46227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0520" y="46227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676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2388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16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7:24:05Z</dcterms:created>
  <dc:creator>student1</dc:creator>
  <dc:description>This is my project presentation</dc:description>
  <cp:keywords>project </cp:keywords>
  <dc:language>en-US</dc:language>
  <cp:lastModifiedBy>jgaron</cp:lastModifiedBy>
  <dcterms:modified xsi:type="dcterms:W3CDTF">2007-07-27T17:26:01Z</dcterms:modified>
  <cp:revision>2</cp:revision>
  <dc:subject>My Project Overview</dc:subject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